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3829-A138-4823-9E2A-8BC0FB2E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66F5-5310-4361-98F1-E541CA13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89DF-CBD8-47FD-82AA-63EE0281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D889-DF78-43DA-9F01-10BD99BD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CD7C-46CA-4376-92FA-7542FE41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A62C-0628-4E56-A465-6AF10275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C5A1-3D40-4C78-A2C0-351FD6E4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F80C-2C08-47F5-A0A7-2367969D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A06C-A3EA-4525-80C2-55111B0F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0FC3-A799-4578-8348-6A70EE7E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3055-C8F8-4633-A6CF-5B8B5599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F968-A273-499B-9461-75320D86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657B-1049-4A10-AF24-4F3A1514E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ake Card Gam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BC788F84"/>
          <p:cNvPicPr/>
          <p:nvPr/>
        </p:nvPicPr>
        <p:blipFill>
          <a:blip r:embed="rId1"/>
          <a:stretch/>
        </p:blipFill>
        <p:spPr>
          <a:xfrm>
            <a:off x="1371600" y="1600200"/>
            <a:ext cx="63198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ake Card Gam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239432"/>
          <p:cNvPicPr/>
          <p:nvPr/>
        </p:nvPicPr>
        <p:blipFill>
          <a:blip r:embed="rId1"/>
          <a:stretch/>
        </p:blipFill>
        <p:spPr>
          <a:xfrm>
            <a:off x="1066680" y="1447920"/>
            <a:ext cx="72248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8:58:43Z</dcterms:created>
  <dc:creator>CABELL BOE</dc:creator>
  <dc:description/>
  <dc:language>en-US</dc:language>
  <cp:lastModifiedBy>CABELL BOE</cp:lastModifiedBy>
  <dcterms:modified xsi:type="dcterms:W3CDTF">2009-06-01T18:58:52Z</dcterms:modified>
  <cp:revision>1</cp:revision>
  <dc:subject/>
  <dc:title>Make Card Games!</dc:title>
</cp:coreProperties>
</file>